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10.jpeg" ContentType="image/jpeg"/>
  <Override PartName="/ppt/media/image11.jpeg" ContentType="image/jpe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To play the movies and simulations included, view the presentation in Slide Show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e1c3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8289360" y="1285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EFA2-EED1-4AEC-A5DA-55576D5BCDA8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3de8"/>
                </a:solidFill>
                <a:latin typeface="Comic Sans MS"/>
              </a:rPr>
              <a:t>The Mol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ncwmole"/>
          <p:cNvPicPr/>
          <p:nvPr/>
        </p:nvPicPr>
        <p:blipFill>
          <a:blip r:embed="rId1"/>
          <a:stretch/>
        </p:blipFill>
        <p:spPr>
          <a:xfrm>
            <a:off x="228600" y="1981080"/>
            <a:ext cx="2819520" cy="2009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oleday"/>
          <p:cNvPicPr/>
          <p:nvPr/>
        </p:nvPicPr>
        <p:blipFill>
          <a:blip r:embed="rId2"/>
          <a:stretch/>
        </p:blipFill>
        <p:spPr>
          <a:xfrm>
            <a:off x="6019920" y="990720"/>
            <a:ext cx="2886120" cy="53337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2"/>
          <p:cNvSpPr/>
          <p:nvPr/>
        </p:nvSpPr>
        <p:spPr>
          <a:xfrm>
            <a:off x="228600" y="4495680"/>
            <a:ext cx="571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Impact"/>
              </a:rPr>
              <a:t>6.02 X 10</a:t>
            </a:r>
            <a:r>
              <a:rPr b="1" lang="en-US" sz="9600" spc="-1" strike="noStrike" baseline="30000">
                <a:solidFill>
                  <a:srgbClr val="000000"/>
                </a:solidFill>
                <a:latin typeface="Impact"/>
              </a:rPr>
              <a:t>2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457200" y="304920"/>
            <a:ext cx="1981080" cy="156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emistry I HD – Chapter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emistry I – 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CP - Hando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514600" y="2362320"/>
            <a:ext cx="320040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ss of 1 mole (in gra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al to the numerical value of the average atomic mass (get from periodic t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1 mo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 C atom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0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1 mo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Mg atom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.3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1 mo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Cu atom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3.5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3de8"/>
                </a:solidFill>
                <a:latin typeface="Arial"/>
              </a:rPr>
              <a:t>Molar M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63de8"/>
                </a:solidFill>
                <a:latin typeface="Arial"/>
              </a:rPr>
              <a:t>Other Names Related to Molar M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ular Mass/Molecular Weigh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you have a single molecule, mass is measured in amu’s instead of grams. But, the molecular mass/weight i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me numerical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1 mole of molecules.  Only the units are different. (This is the beauty of Avogadro’s Number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 Mass/Formula Weigh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me goes for compounds.  But again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numerical value is the s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Only the units are diffe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0b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b2d"/>
                </a:solidFill>
                <a:latin typeface="Arial"/>
              </a:rPr>
              <a:t>THE POINT: You may hear </a:t>
            </a:r>
            <a:r>
              <a:rPr b="1" lang="en-US" sz="2800" spc="-1" strike="noStrike" u="sng">
                <a:solidFill>
                  <a:srgbClr val="990b2d"/>
                </a:solidFill>
                <a:uFillTx/>
                <a:latin typeface="Arial"/>
              </a:rPr>
              <a:t>all</a:t>
            </a:r>
            <a:r>
              <a:rPr b="1" lang="en-US" sz="2800" spc="-1" strike="noStrike">
                <a:solidFill>
                  <a:srgbClr val="990b2d"/>
                </a:solidFill>
                <a:latin typeface="Arial"/>
              </a:rPr>
              <a:t> of these terms</a:t>
            </a:r>
            <a:r>
              <a:rPr b="0" lang="en-US" sz="2800" spc="-1" strike="noStrike">
                <a:solidFill>
                  <a:srgbClr val="990b2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b2d"/>
                </a:solidFill>
                <a:latin typeface="Arial"/>
              </a:rPr>
              <a:t>which mean the </a:t>
            </a:r>
            <a:r>
              <a:rPr b="0" i="1" lang="en-US" sz="2400" spc="-1" strike="noStrike">
                <a:solidFill>
                  <a:srgbClr val="990b2d"/>
                </a:solidFill>
                <a:latin typeface="Arial"/>
              </a:rPr>
              <a:t>SAME NUMBER</a:t>
            </a:r>
            <a:r>
              <a:rPr b="0" lang="en-US" sz="2400" spc="-1" strike="noStrike">
                <a:solidFill>
                  <a:srgbClr val="990b2d"/>
                </a:solidFill>
                <a:latin typeface="Arial"/>
              </a:rPr>
              <a:t>… just different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-360" y="182880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nd the molar mass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usually we round to the tenths place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3de8"/>
                </a:solidFill>
                <a:latin typeface="Arial"/>
              </a:rPr>
              <a:t>Learning Check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57200" y="3633840"/>
            <a:ext cx="436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63de8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1 mo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Br 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63de8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1 mo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Sn 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4801320" y="3537000"/>
            <a:ext cx="3306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79.9 g/m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4801680" y="4114800"/>
            <a:ext cx="3306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118.7 g/m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ss in grams of 1 mole equal numerically to the sum of the atomic m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1 mole of  CaCl</a:t>
            </a:r>
            <a:r>
              <a:rPr b="1" lang="en-US" sz="28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 111.1 g/mo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1 mole C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x 40.1 g/m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2 moles 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x 35.5 g/mol    = 111.1 g/mol Ca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1 mole of N</a:t>
            </a:r>
            <a:r>
              <a:rPr b="1" lang="en-US" sz="28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63de8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92.0 g/m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3"/>
          <p:cNvSpPr/>
          <p:nvPr/>
        </p:nvSpPr>
        <p:spPr>
          <a:xfrm>
            <a:off x="457200" y="4800600"/>
            <a:ext cx="7924680" cy="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3de8"/>
                </a:solidFill>
                <a:latin typeface="Arial"/>
              </a:rPr>
              <a:t>Molar Mass of Molecules and Compou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76"/>
              </a:spcBef>
              <a:buClr>
                <a:srgbClr val="063de8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63de8"/>
                </a:solidFill>
                <a:latin typeface="Arial"/>
              </a:rPr>
              <a:t>Molar Mas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of K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O = ? Grams/mol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3500" spc="-1" strike="noStrike">
                <a:solidFill>
                  <a:srgbClr val="063de8"/>
                </a:solidFill>
                <a:latin typeface="Arial"/>
              </a:rPr>
              <a:t>Molar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063de8"/>
                </a:solidFill>
                <a:latin typeface="Arial"/>
              </a:rPr>
              <a:t>Mas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of antacid Al(OH)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= ? Grams/mol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3de8"/>
                </a:solidFill>
                <a:latin typeface="Arial"/>
              </a:rPr>
              <a:t>Learning Check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THINK!.WAV" descr=""/>
          <p:cNvPicPr/>
          <p:nvPr/>
        </p:nvPicPr>
        <p:blipFill>
          <a:blip r:embed="rId1"/>
          <a:stretch/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33699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52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zac, 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, is a widely used  antidepressant that inhibits the uptake of serotonin by the brain.  Find its molar m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3de8"/>
                </a:solidFill>
                <a:latin typeface="Arial"/>
              </a:rPr>
              <a:t>Learning Che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249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molar mass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m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les</a:t>
            </a:r>
            <a:r>
              <a:rPr b="1" lang="en-US" sz="3000" spc="-1" strike="noStrike">
                <a:solidFill>
                  <a:srgbClr val="618ff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"/>
          <p:cNvSpPr/>
          <p:nvPr/>
        </p:nvSpPr>
        <p:spPr>
          <a:xfrm>
            <a:off x="3352680" y="335268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Calculations with Molar M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uminum is often used for the structure of light-weight bicycle frames.  How many grams of Al are in 3.00 moles of Al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00 moles Al           ? g Al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3"/>
          <p:cNvSpPr/>
          <p:nvPr/>
        </p:nvSpPr>
        <p:spPr>
          <a:xfrm>
            <a:off x="4038480" y="4267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Object 4" descr=""/>
          <p:cNvPicPr/>
          <p:nvPr/>
        </p:nvPicPr>
        <p:blipFill>
          <a:blip r:embed="rId1"/>
          <a:stretch/>
        </p:blipFill>
        <p:spPr>
          <a:xfrm>
            <a:off x="6705720" y="4800600"/>
            <a:ext cx="2209680" cy="1785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Converting Moles and 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7760" y="685440"/>
            <a:ext cx="9066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0b2d"/>
                </a:solidFill>
                <a:latin typeface="Arial"/>
              </a:rPr>
              <a:t>1.  Molar mass of Al</a:t>
            </a:r>
            <a:r>
              <a:rPr b="1" lang="en-US" sz="3000" spc="-1" strike="noStrike">
                <a:solidFill>
                  <a:srgbClr val="990b2d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 mole Al = 27.0 g 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0b2d"/>
                </a:solidFill>
                <a:latin typeface="Arial"/>
              </a:rPr>
              <a:t>2. Conversion factors for 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27.0g A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or    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1 mol 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 mol Al                    27.0 g 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0b2d"/>
                </a:solidFill>
                <a:latin typeface="Arial"/>
              </a:rPr>
              <a:t>3. Setup</a:t>
            </a:r>
            <a:r>
              <a:rPr b="1" i="1" lang="en-US" sz="30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00 moles Al    x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27.0 g A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 mole 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i="1" lang="en-US" sz="3000" spc="-1" strike="noStrike">
                <a:solidFill>
                  <a:srgbClr val="990b2d"/>
                </a:solidFill>
                <a:latin typeface="Arial"/>
              </a:rPr>
              <a:t>Answer        </a:t>
            </a:r>
            <a:r>
              <a:rPr b="1" lang="en-US" sz="3000" spc="-1" strike="noStrike">
                <a:solidFill>
                  <a:srgbClr val="990b2d"/>
                </a:solidFill>
                <a:latin typeface="Arial"/>
              </a:rPr>
              <a:t>=  </a:t>
            </a:r>
            <a:r>
              <a:rPr b="1" lang="en-US" sz="3000" spc="-1" strike="noStrike">
                <a:solidFill>
                  <a:srgbClr val="e8e816"/>
                </a:solidFill>
                <a:latin typeface="Arial"/>
              </a:rPr>
              <a:t>81.0 g 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artificial sweetener aspartame (Nutra-Sweet) formula C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s used to sweeten diet foods, coffee and soft drinks. How many moles of aspartame are present in 225 g of aspartam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3"/>
          <p:cNvGraphicFramePr/>
          <p:nvPr/>
        </p:nvGraphicFramePr>
        <p:xfrm>
          <a:off x="7467480" y="0"/>
          <a:ext cx="167652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0"/>
                    <a:ext cx="16765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Learning Check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3"/>
          <a:stretch/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4872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63de8"/>
                </a:solidFill>
                <a:latin typeface="Comic Sans MS"/>
              </a:rPr>
              <a:t>STOICHIOMET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36576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the study of the quantitative aspects of chemical reac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191120" y="1562040"/>
            <a:ext cx="4546440" cy="49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Atoms/Molecules and 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ce 6.02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ticles = 1 mo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mole = molar mass (gra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can convert atoms/molecules to moles and then moles to grams! (Two step pro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can’t go directly from atoms to grams!!!! You MUST go thru MO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’s like asking 2 dozen cookies weigh how many ounces if 1 cookie weighs 4 oz?  You have to convert to dozen fir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lar mass             Avogadro’s number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m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o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verything must go through Moles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1523880" y="28195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Calcu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495680" y="28195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Atoms/Molecules and 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atoms of Cu are present in 35.4 g of C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0880" y="35053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.4 g Cu        1 mol Cu       6.0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oms C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63.5 g C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1 mol C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304920" y="4038480"/>
            <a:ext cx="815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2362320" y="3581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4495680" y="3581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057400" y="51814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8e816"/>
                </a:solidFill>
                <a:latin typeface="Arial"/>
              </a:rPr>
              <a:t>= 3.4 X 10</a:t>
            </a:r>
            <a:r>
              <a:rPr b="1" lang="en-US" sz="3200" spc="-1" strike="noStrike" baseline="30000">
                <a:solidFill>
                  <a:srgbClr val="e8e816"/>
                </a:solidFill>
                <a:latin typeface="Arial"/>
              </a:rPr>
              <a:t>23 </a:t>
            </a:r>
            <a:r>
              <a:rPr b="1" lang="en-US" sz="3200" spc="-1" strike="noStrike">
                <a:solidFill>
                  <a:srgbClr val="e8e816"/>
                </a:solidFill>
                <a:latin typeface="Arial"/>
              </a:rPr>
              <a:t>atoms 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 flipV="1">
            <a:off x="1371600" y="373356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0"/>
          <p:cNvSpPr/>
          <p:nvPr/>
        </p:nvSpPr>
        <p:spPr>
          <a:xfrm flipV="1">
            <a:off x="3352680" y="4114440"/>
            <a:ext cx="838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1"/>
          <p:cNvSpPr/>
          <p:nvPr/>
        </p:nvSpPr>
        <p:spPr>
          <a:xfrm flipV="1">
            <a:off x="3124080" y="3657240"/>
            <a:ext cx="10670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 flipV="1">
            <a:off x="6095880" y="4114440"/>
            <a:ext cx="12956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3" descr="Copper%20Statue%20of%20Liberty"/>
          <p:cNvPicPr/>
          <p:nvPr/>
        </p:nvPicPr>
        <p:blipFill>
          <a:blip r:embed="rId1"/>
          <a:stretch/>
        </p:blipFill>
        <p:spPr>
          <a:xfrm>
            <a:off x="7746840" y="0"/>
            <a:ext cx="1397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Learning Chec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atoms of K are present in 78.4 g of 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3" descr=""/>
          <p:cNvPicPr/>
          <p:nvPr/>
        </p:nvPicPr>
        <p:blipFill>
          <a:blip r:embed="rId1"/>
          <a:stretch/>
        </p:blipFill>
        <p:spPr>
          <a:xfrm>
            <a:off x="94489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7123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Learning Chec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mass (in grams) of 1.20 X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olecules of glucose (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3" descr=""/>
          <p:cNvPicPr/>
          <p:nvPr/>
        </p:nvPicPr>
        <p:blipFill>
          <a:blip r:embed="rId1"/>
          <a:stretch/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systeme-glucose"/>
          <p:cNvPicPr/>
          <p:nvPr/>
        </p:nvPicPr>
        <p:blipFill>
          <a:blip r:embed="rId2"/>
          <a:stretch/>
        </p:blipFill>
        <p:spPr>
          <a:xfrm>
            <a:off x="6248520" y="152280"/>
            <a:ext cx="2286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543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Learning Chec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o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O are present in 78.1 g of oxyg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80880" y="3505320"/>
            <a:ext cx="8763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8.1 g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1 mol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6.0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8e816"/>
                </a:solidFill>
                <a:latin typeface="Arial"/>
              </a:rPr>
              <a:t>molec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atoms 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32.0 g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1 mol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olecul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304920" y="3962520"/>
            <a:ext cx="883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1828800" y="3581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3276720" y="3581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 flipV="1">
            <a:off x="1143000" y="365724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 flipV="1">
            <a:off x="2743200" y="396216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1"/>
          <p:cNvSpPr/>
          <p:nvPr/>
        </p:nvSpPr>
        <p:spPr>
          <a:xfrm flipV="1">
            <a:off x="2286000" y="3657240"/>
            <a:ext cx="8380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2"/>
          <p:cNvSpPr/>
          <p:nvPr/>
        </p:nvSpPr>
        <p:spPr>
          <a:xfrm flipV="1">
            <a:off x="3962520" y="4038480"/>
            <a:ext cx="9903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6781680" y="35053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4"/>
          <p:cNvSpPr/>
          <p:nvPr/>
        </p:nvSpPr>
        <p:spPr>
          <a:xfrm flipV="1">
            <a:off x="4952880" y="3657240"/>
            <a:ext cx="17528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5"/>
          <p:cNvSpPr/>
          <p:nvPr/>
        </p:nvSpPr>
        <p:spPr>
          <a:xfrm flipV="1">
            <a:off x="7162920" y="4114440"/>
            <a:ext cx="16761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6" descr=""/>
          <p:cNvPicPr/>
          <p:nvPr/>
        </p:nvPicPr>
        <p:blipFill>
          <a:blip r:embed="rId1"/>
          <a:stretch/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865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160" y="12193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percent carbon in 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the glutamic acid used to make MSG monosodium glutamate), a compound used to flavor foods and tenderize mea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e8e816"/>
                </a:solidFill>
                <a:latin typeface="Arial"/>
              </a:rPr>
              <a:t>a)   8.22 %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e81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8e816"/>
                </a:solidFill>
                <a:latin typeface="Arial"/>
              </a:rPr>
              <a:t>b)   24.3 %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e81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8e816"/>
                </a:solidFill>
                <a:latin typeface="Arial"/>
              </a:rPr>
              <a:t>c)   41.1 %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Object 3" descr=""/>
          <p:cNvPicPr/>
          <p:nvPr/>
        </p:nvPicPr>
        <p:blipFill>
          <a:blip r:embed="rId1"/>
          <a:stretch/>
        </p:blipFill>
        <p:spPr>
          <a:xfrm>
            <a:off x="5257800" y="3505320"/>
            <a:ext cx="2241720" cy="27874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Percent Com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Round1.wav" descr=""/>
          <p:cNvPicPr/>
          <p:nvPr/>
        </p:nvPicPr>
        <p:blipFill>
          <a:blip r:embed="rId2"/>
          <a:stretch/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55666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70f"/>
                </a:solidFill>
                <a:latin typeface="Comic Sans MS"/>
              </a:rPr>
              <a:t>Chemical Formulas of Compounds</a:t>
            </a:r>
            <a:br>
              <a:rPr sz="3600"/>
            </a:br>
            <a:r>
              <a:rPr b="1" lang="en-US" sz="1800" spc="-1" strike="noStrike">
                <a:solidFill>
                  <a:srgbClr val="ff070f"/>
                </a:solidFill>
                <a:latin typeface="Comic Sans MS"/>
              </a:rPr>
              <a:t>(HONORS on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s give the relative numbers of atoms or moles of each element in a formula unit - always a whole number ratio (the law of definite proportion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2 atoms of O for every 1 atom 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mole of 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 2 moles of O atoms to every 1 mole of N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know or can determine the relative number of moles of each element in a compound, we can determine a formula for the comp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70f"/>
                </a:solidFill>
                <a:latin typeface="Comic Sans MS"/>
              </a:rPr>
              <a:t>Types of Formulas</a:t>
            </a:r>
            <a:br>
              <a:rPr sz="4400"/>
            </a:br>
            <a:r>
              <a:rPr b="1" lang="en-US" sz="2000" spc="-1" strike="noStrike">
                <a:solidFill>
                  <a:srgbClr val="ff070f"/>
                </a:solidFill>
                <a:latin typeface="Comic Sans MS"/>
              </a:rPr>
              <a:t>(HONORS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33440"/>
            <a:ext cx="777240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ormula of a compound that expresse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mallest whole number rat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the atoms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ic formula are always empirical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ormula that state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umber of each kind of atom found i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e molecu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the comp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70f"/>
                </a:solidFill>
                <a:latin typeface="Comic Sans MS"/>
              </a:rPr>
              <a:t>To obtain an </a:t>
            </a:r>
            <a:r>
              <a:rPr b="1" i="1" lang="en-US" sz="3600" spc="-1" strike="noStrike">
                <a:solidFill>
                  <a:srgbClr val="ff070f"/>
                </a:solidFill>
                <a:latin typeface="Comic Sans MS"/>
              </a:rPr>
              <a:t>Empirical Formula </a:t>
            </a:r>
            <a:r>
              <a:rPr b="1" lang="en-US" sz="1800" spc="-1" strike="noStrike">
                <a:solidFill>
                  <a:srgbClr val="ff070f"/>
                </a:solidFill>
                <a:latin typeface="Comic Sans MS"/>
              </a:rPr>
              <a:t>(HONORS on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e the mass in grams of each element present, if necess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the number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e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de each by the smallest number of moles to obtain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implest whole number rat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whole numbers are not obtaine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step 3),  multiply through by the smallest number that will give all whol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ff3300"/>
                </a:solidFill>
                <a:latin typeface="Arial"/>
              </a:rPr>
              <a:t>*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 careful! Do not round off numbers prematur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3de8"/>
                </a:solidFill>
                <a:latin typeface="Arial"/>
              </a:rPr>
              <a:t>The M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65534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unting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a dozen, except instead of 12, it’s 602 billion trillion 602,000,000,000,000,000,0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02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in scientific not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number is named in honor of </a:t>
            </a: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Amedeo _________ (1776 – 1856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who studied quantities of gases and discovered that no matter what the gas was, there were the same number of molecules 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vogadro"/>
          <p:cNvPicPr/>
          <p:nvPr/>
        </p:nvPicPr>
        <p:blipFill>
          <a:blip r:embed="rId1"/>
          <a:stretch/>
        </p:blipFill>
        <p:spPr>
          <a:xfrm>
            <a:off x="6784920" y="1981080"/>
            <a:ext cx="2359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356320" cy="531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ample of a brown gas, a major air pollutant, is found to contain 2.34 g N and 5.34g O.  Determine a formula for this sub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atios  so convert grams to m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les of N  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34g of N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0.167 moles of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.01 g/m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les of O  =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34 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= 0.334 moles of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.00 g/m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u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2133720" y="5867280"/>
                <a:ext cx="11174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7 </m:t>
                    </m:r>
                    <m:r>
                      <m:t xml:space="preserve">O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4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4" name="Object 5"/>
          <p:cNvGraphicFramePr/>
          <p:nvPr/>
        </p:nvGraphicFramePr>
        <p:xfrm>
          <a:off x="3962520" y="5791320"/>
          <a:ext cx="22604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5791320"/>
                    <a:ext cx="22604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Rectangle 7"/>
          <p:cNvSpPr/>
          <p:nvPr/>
        </p:nvSpPr>
        <p:spPr>
          <a:xfrm>
            <a:off x="6801480" y="640080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70f"/>
                </a:solidFill>
                <a:latin typeface="Times New Roman"/>
              </a:rPr>
              <a:t>(HONORS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0f"/>
                </a:solidFill>
                <a:latin typeface="Comic Sans MS"/>
              </a:rPr>
              <a:t>Calculation of the Molecular Formula</a:t>
            </a:r>
            <a:br>
              <a:rPr sz="2800"/>
            </a:br>
            <a:r>
              <a:rPr b="1" lang="en-US" sz="1800" spc="-1" strike="noStrike">
                <a:solidFill>
                  <a:srgbClr val="ff070f"/>
                </a:solidFill>
                <a:latin typeface="Comic Sans MS"/>
              </a:rPr>
              <a:t>(HONORS on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ompound has an empirical formula of 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The colourless liquid, used in rocket engines has a molar mass of 92.0 g/mole.  What is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olecular formul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is substa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0f"/>
                </a:solidFill>
                <a:latin typeface="Comic Sans MS"/>
              </a:rPr>
              <a:t>Empirical Formula from % Composition</a:t>
            </a:r>
            <a:br>
              <a:rPr sz="2800"/>
            </a:br>
            <a:r>
              <a:rPr b="1" lang="en-US" sz="2800" spc="-1" strike="noStrike">
                <a:solidFill>
                  <a:srgbClr val="ff070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70f"/>
                </a:solidFill>
                <a:latin typeface="Comic Sans MS"/>
              </a:rPr>
              <a:t>(HONORS on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ubstance has the following composition by mass: 60.80 % Na ;  28.60 % B ;  10.60 %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empirical formula of the subst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 a sample size of 100 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will contain  28.60 grams of B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.60 grams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e the number of moles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e the simplest whole number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3de8"/>
                </a:solidFill>
                <a:latin typeface="Arial"/>
              </a:rPr>
              <a:t>Just How Big is a Mo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43200" y="129492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ough soft drink cans to cover the surface of the earth to a depth of over 200 mi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had Avogadro's number of unpopped popcorn kernels, and spread them across the United States of America, the country would be covered in popcorn to a depth of over 9 mi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were able to count atoms at the rate of 10 million per second, it would take about 2 billion years to count the atoms in one mo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cokecans"/>
          <p:cNvPicPr/>
          <p:nvPr/>
        </p:nvPicPr>
        <p:blipFill>
          <a:blip r:embed="rId1"/>
          <a:stretch/>
        </p:blipFill>
        <p:spPr>
          <a:xfrm>
            <a:off x="228600" y="1828800"/>
            <a:ext cx="24480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Everybody Has Avogadro’s Number!</a:t>
            </a:r>
            <a:br>
              <a:rPr sz="3600"/>
            </a:b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But Where Did it Come Fro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NOT just picked!  It was MEAS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of the better methods of measuring this number was the Millikan Oil Drop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then we have found even better ways of measuring using x-ray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millikansoildropexperiment.avi" descr=""/>
          <p:cNvPicPr/>
          <p:nvPr/>
        </p:nvPicPr>
        <p:blipFill>
          <a:blip r:embed="rId1"/>
          <a:stretch/>
        </p:blipFill>
        <p:spPr>
          <a:xfrm>
            <a:off x="4191120" y="24382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3de8"/>
                </a:solidFill>
                <a:latin typeface="Arial"/>
              </a:rPr>
              <a:t>The M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dozen cookies = 12 cook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mole of cookies = 6.02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k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dozen cars = 12 c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mole of cars = 6.02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dozen Al atoms = 12 Al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mole of Al atoms = 6.02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 that the NUMBER is always the same, but the MASS is very differ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le is abbreviated mol (gee, that’s a lot quicker to write, huh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362320" y="1294920"/>
            <a:ext cx="62481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.02 x 10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 ato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6.02 x 10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molecu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.02 x 10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Cl “molecules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echnically, ionics are compounds not molecules so they are called formula un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.02 x 10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ons an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.02 x 10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3de8"/>
                </a:solidFill>
                <a:latin typeface="Arial"/>
              </a:rPr>
              <a:t>A Mole of Particles</a:t>
            </a:r>
            <a:br>
              <a:rPr sz="4000"/>
            </a:br>
            <a:r>
              <a:rPr b="1" lang="en-US" sz="40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990b2d"/>
                </a:solidFill>
                <a:latin typeface="Arial"/>
              </a:rPr>
              <a:t>Contains 6.02 x 10</a:t>
            </a:r>
            <a:r>
              <a:rPr b="1" lang="en-US" sz="4000" spc="-1" strike="noStrike" baseline="30000">
                <a:solidFill>
                  <a:srgbClr val="990b2d"/>
                </a:solidFill>
                <a:latin typeface="Arial"/>
              </a:rPr>
              <a:t>23 </a:t>
            </a:r>
            <a:r>
              <a:rPr b="1" lang="en-US" sz="4000" spc="-1" strike="noStrike">
                <a:solidFill>
                  <a:srgbClr val="990b2d"/>
                </a:solidFill>
                <a:latin typeface="Arial"/>
              </a:rPr>
              <a:t>particles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04920" y="1981080"/>
            <a:ext cx="236376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 mole 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 mole 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 mole NaC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.02 x 10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particles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  mol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0b2d"/>
                </a:solidFill>
                <a:latin typeface="Arial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 mo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.02 x 10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partic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 that a particle could be an atom OR a molecu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"/>
          <p:cNvSpPr/>
          <p:nvPr/>
        </p:nvSpPr>
        <p:spPr>
          <a:xfrm>
            <a:off x="2666880" y="4724280"/>
            <a:ext cx="3810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4"/>
          <p:cNvSpPr/>
          <p:nvPr/>
        </p:nvSpPr>
        <p:spPr>
          <a:xfrm>
            <a:off x="2514600" y="2590920"/>
            <a:ext cx="4191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3de8"/>
                </a:solidFill>
                <a:latin typeface="Arial"/>
              </a:rPr>
              <a:t>Avogadro’s Number as Conversion Fa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Number of atoms in 0.500 mole of 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a)   500 Al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b)   6.02  x 10</a:t>
            </a:r>
            <a:r>
              <a:rPr b="1" lang="en-US" sz="2800" spc="-1" strike="noStrike" baseline="30000">
                <a:solidFill>
                  <a:srgbClr val="063de8"/>
                </a:solidFill>
                <a:latin typeface="Arial"/>
              </a:rPr>
              <a:t>23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Al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c)   3.01 x 10</a:t>
            </a:r>
            <a:r>
              <a:rPr b="1" lang="en-US" sz="2800" spc="-1" strike="noStrike" baseline="30000">
                <a:solidFill>
                  <a:srgbClr val="063de8"/>
                </a:solidFill>
                <a:latin typeface="Arial"/>
              </a:rPr>
              <a:t>23 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Al</a:t>
            </a:r>
            <a:r>
              <a:rPr b="1" lang="en-US" sz="2800" spc="-1" strike="noStrike" baseline="30000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Number of moles of S in 1.8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a)   1.0 mole S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b)   3.0 mole S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c)   1.1 x 10</a:t>
            </a:r>
            <a:r>
              <a:rPr b="1" lang="en-US" sz="2800" spc="-1" strike="noStrike" baseline="30000">
                <a:solidFill>
                  <a:srgbClr val="063de8"/>
                </a:solidFill>
                <a:latin typeface="Arial"/>
              </a:rPr>
              <a:t>48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mole S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3de8"/>
                </a:solidFill>
                <a:latin typeface="Arial"/>
              </a:rPr>
              <a:t>Learning Che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4232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1T16:33:21Z</dcterms:created>
  <dc:creator>Neil Rapp</dc:creator>
  <dc:description/>
  <cp:keywords>moles avogadro's number grams mole</cp:keywords>
  <dc:language>en-US</dc:language>
  <cp:lastModifiedBy>installer</cp:lastModifiedBy>
  <cp:lastPrinted>2002-08-08T15:40:28Z</cp:lastPrinted>
  <dcterms:modified xsi:type="dcterms:W3CDTF">2010-12-03T21:58:24Z</dcterms:modified>
  <cp:revision>85</cp:revision>
  <dc:subject>Chemistry I (High School)</dc:subject>
  <dc:title>The Mole</dc:title>
</cp:coreProperties>
</file>